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13E-E1D5-4F49-B61F-E2202B71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1C8-62C3-43E3-B045-98E95313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58B-C7D0-45AA-91AD-9ABBAC82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1DD-21DB-4970-AECC-226A77C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2FFC-9628-4083-8E64-07BF41D4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8996-9DCF-489D-BCF4-AF50632C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5997-8B84-43E6-AADD-EFDAEDD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35B2-E6F9-4431-BB69-07F63835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1021-83CC-40BB-B883-D6E8C460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2BAA-E77A-40C7-8C34-7D90CA42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DEA9-A511-49DA-8050-3A496A48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3D0-9608-485E-B9E2-72E653B3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9889-3FF7-4EB2-8483-0E43B3E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186F-3F66-4CFD-8C35-E6C80CA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7351-0404-41DD-A077-293F1800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405E-D44A-4A29-8E0B-07753F6C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C105-E558-422B-9376-68131779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174-6F74-4E45-A2E3-CE0F9C6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19A-9152-4DE0-882F-70929EE0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943-6D1E-421B-8F8C-D986F359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E6D-0587-4229-B08A-A30592E1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089-B480-4C86-9A64-49129F3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358-D104-43B3-A64D-33666F9D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410-CC6A-4F4D-BD69-3A723F0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97C9-0049-48D4-B203-94F570610F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1CB6-99ED-4C93-BF24-F571D19FF4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om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Taxono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st widely used classification system for analyzing educational questions in the cognitive dom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achers tend to ask primarily low-level questions and the students lose the opportunity to think critically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om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Taxono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nowledg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rehen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ppl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ynthe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alu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questions encourage students to recall information in the form that they learn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level ver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z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rehension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ncourage students to communicate an idea or phenomenon in a new or different for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rehension level verb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scriminat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raliz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di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ives examp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timat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f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dic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tend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mmariz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lev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 students to apply ideas or skills to new situations or to use the knowledge they possess to solve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level verbs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to 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ustr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83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sis lev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students to break down something, such as an idea, into its constituent parts or to uncover the unique characteristics of a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g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sis level verb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k 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rimi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egoriz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i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ic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 students to put the information back together in imaginative and/or original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thesis level verb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organ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 students to judge something by determining a standard and comparing it to the stand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 level verb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ai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iq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i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ful questioning techniqu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it 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hrasing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lanning ahe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acher response to questions (redirection, prompting, probing, prais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it 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fter asking a question, the teacher waits 3-5 seconds before accepting ans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ive students time to think before answering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 in dramatic changes in student respo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767960"/>
            <a:ext cx="9144000" cy="48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hy are questions important?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eachers ask as many as 300 to 400 questions a day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Questions guide students</a:t>
            </a:r>
            <a:r>
              <a:rPr b="0" lang="ja-JP" sz="3600" spc="-1" strike="noStrike">
                <a:solidFill>
                  <a:srgbClr val="ffffcc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thinking and determines how students will process materials presented to them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Questions are the single, most influential teaching activity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76320" y="267660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of Wait tim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ngth of student responses is increased 300 to 40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increase their use of evidence, or of logic based on evidence, to support their stat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ailure to respond to questions decr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cessity for disciplinary measures de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ariety of students participating in discussion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gain confidence in their ability to construct responses to questio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rasing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questions are phrased impact the quality of response and the quality of thinking requi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 begin a question with a name. This engages only 1 student, all the others are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 the hook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oid beginning each question the same way.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can tell me….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ng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indicates that many teache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high-achieving students more than low achieving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boys more than gir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white students more than minorit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students in the front row more than the back 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students on one side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unequal patterns of questioning, students have unequal opportunities to process material and transfer to long-term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lanning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 sure to write questions ahead of time to ensure higher level thinking questions are utilize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ponding to student ans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students have responded to a question, the teacher decides whether to praise, acknowledge, redirect, probe, prompt, correct, or ask a new questio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selectiv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limit further thinking when viewed as a terminal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ise must be meaning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 away from global praise- good j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specific- I like the way you used your experience to justify your answe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l why it was a good jo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228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ing the same divergent (open-ended) question to several students in a sequence of uninterrupted by the teacher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comme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teachers to get contributions from several stu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more people to participate in less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class members to continue to process the ques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p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ing the student to the correct answer by a hint or a series of hi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 the students to take risks and make educated gue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s the students how to use various thought processes to find answers to questions and proble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pting is a difficult skill because teachers cannot plan the hint questions ahead of time, one has to think on on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ing is a means of getting students to elaborate on their initial responses to questions, particularly when the initial response to a question has been mini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ing the student for further clarification, explanation interpretation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opportunity for more in-depth thin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ect misinformation and prompt for correct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repeat the wrong answer, only repeat back the correct answ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an stop listening after the incorrect answer is given. Make sure that the students are paying attention when the correct answer is giv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ask question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cus Student att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lp students interact with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eck for understand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valuate the effectiveness of the less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ase the level of think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522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ive practices related to ques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the questions that are to be asked during a les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y the purpose of the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balanced combination of low/high/convergent/divergent ques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fferent questions elicit different thought proces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ur types of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verg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verg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w-lev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gh-lev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verg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ve one correct ans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vergent questions are needed to help students sharpen their focus and attention to detail and accurac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3+4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the days of the we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the planets in our solar system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year did the US land on 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verg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pen-ended, more than one correct ans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vergent questions help students to delve into imagination and creativity while at the same time, build their confidenc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some examples of amphibia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your favorite boo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nimals are mammal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w-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quires only mental recall to be answer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uilding blocks to higher-level think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student only has to remember something that he/she already know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the order of the planets in our solar system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three simple machin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gh-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student must do some kind of processing of information in order to answer the ques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rocesses include comparing, describing, inferring, hypothesizing, analyzing, and making judgments or evaluation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are your community to the communities of the colonis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do you think will happen to this paper clip when I drop it into the cup of water? Will it sink or flo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do you think life was like for the colonist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2:43:57Z</dcterms:created>
  <dc:creator> </dc:creator>
  <dc:description/>
  <dc:language>en-US</dc:language>
  <cp:lastModifiedBy>Karen Verkler</cp:lastModifiedBy>
  <dcterms:modified xsi:type="dcterms:W3CDTF">2014-09-30T20:54:52Z</dcterms:modified>
  <cp:revision>4</cp:revision>
  <dc:subject/>
  <dc:title>  Why are questions important? Teachers ask as many as 300 to 400 questions a day. Questions guide students’ thinking and determines how students will process materials presented to them. Questions are the single, most influential teaching activity. </dc:title>
</cp:coreProperties>
</file>